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8261261"/>
        <c:axId val="38702538"/>
      </c:barChart>
      <c:catAx>
        <c:axId val="8826126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702538"/>
        <c:crosses val="autoZero"/>
        <c:auto val="1"/>
        <c:lblAlgn val="ctr"/>
        <c:lblOffset val="100"/>
        <c:noMultiLvlLbl val="0"/>
      </c:catAx>
      <c:valAx>
        <c:axId val="3870253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826126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35C09-0DF6-4C15-B830-E63E53CD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B7C8-93F5-4294-B41F-00F88993E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C3786-5D08-4593-8511-BCB56AEA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B34B0-E229-4CF3-98A8-91C423B47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1083B-5EDF-4C7D-9ED0-EC57580FC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A66B-A6D1-4FB2-A77E-624A3FA2D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957AB-BF68-4D03-B14D-2D180B184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3EF50-6619-4C1B-97B8-829D03733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11522-4114-4BD1-851B-E6995F20D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B8E96-A7CB-4842-AC42-7952B2D64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E9CA-689B-47B3-B4C3-5800EAFA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2B7C-064D-4C7A-9755-046CFB3A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2290-B4B4-42FB-93E4-29C377501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EF359-F577-4D63-8DAC-31E7059B1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6D3DD-02C7-4CCB-9409-2BB62025F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F281D-09ED-499F-8BB8-8353AF72B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BAAE7-FFE0-4B81-8AAC-9E6624A2C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BD44-2BC1-4CC5-B397-28F67C71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6498-FE18-4A36-821A-262E4CE2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F8EE-48A5-4274-B231-88BF3467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B9D35-67DC-4BCF-9F23-A92841A3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39B8-2B95-47FE-90D9-F36C923B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0340-9DA6-4BAA-A0C3-949621F18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C60D-1FF0-4CFF-99D9-D7411B304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8E5DC-9C79-44CB-8E42-5D430652B4C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D685C-6050-4F02-98D8-C4694663674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